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3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d833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8043-1125-4032-BBE7-498BAB456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cs.k12.in.us/chsteachers/Amayhew/Biology%20Notes/beyond%20dominance%20notes_files/image004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nthro.palomar.edu/adapt/images/skin_color_range.jp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ciam.com/media/inline/0002E7CA-F27B-13A1-AFAA83414B7FFE9F_1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nthro.palomar.edu/adapt/images/skin_color_range.jp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ciam.com/media/inline/0002E7CA-F27B-13A1-AFAA83414B7FFE9F_1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nthro.palomar.edu/adapt/images/skin_color_range.jp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ciam.com/media/inline/0002E7CA-F27B-13A1-AFAA83414B7FFE9F_1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nthro.palomar.edu/adapt/images/skin_color_range.jp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ciam.com/media/inline/0002E7CA-F27B-13A1-AFAA83414B7FFE9F_1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nthro.palomar.edu/adapt/images/skin_color_range.jp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ciam.com/media/inline/0002E7CA-F27B-13A1-AFAA83414B7FFE9F_1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wu.edu/~darwin/BiSc150/One/rose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wu.edu/~darwin/BiSc150/One/rose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327D-33AF-4872-B8AF-438D2372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FE2B-9A7E-43B8-AC9B-64864A6A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E84A-BB90-4988-A8AC-FBE63A1F4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B703-DE17-4AC3-896A-D05CEC75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1F70-F393-4A25-9129-231DE3185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7A7E-E6F9-4777-AED3-8141CB9C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607A-D2B9-4CC9-92B8-6B8C6D1C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4AF9-0650-4EC3-BE59-44A159F4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1D40-6D49-431A-B319-A9B825CE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22A1-55CB-48B4-BD60-8CD40ED7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8916-AFB7-4FD9-AF68-F4244F03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484B-9CB9-40D8-A6B5-B32CB2C4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63CB-43B8-42AD-820C-943EEE60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4031-497A-43B1-982D-0E954BC9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80AA-F65C-43E7-9D43-01EB5255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5BE2-41ED-4AF4-A121-5B30A618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D4C6-3D57-442A-8A09-33B683EC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EA30-1FF8-499B-AB1F-70E4F8F3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FB98-206E-4FC4-8493-012962E1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B012-D5FB-45E0-90A0-702509B1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2ABD-B00E-4ABC-A948-8B78DF3F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C7F0-D32F-4910-9628-18DBFAC9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A4CF-6C61-4237-B348-B7263730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DFFC-FD98-4FDC-9DFA-0EB3EFDC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d833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d8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a452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7BA9-AFA9-48A1-B4B4-1F9E4CA1E9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d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d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d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d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d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d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d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d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d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d833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FC72-4BFF-4F88-B528-D17FDD3DC5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d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d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d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d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d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d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d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d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d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ffd833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a452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affiliates.allposters.com/link/redirect.asp?aid=455226&amp;c=c&amp;search=13208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affiliates.allposters.com/link/redirect.asp?aid=455226&amp;c=c&amp;search=13208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custombeautyproducts.com/wp-content/uploads/2007/08/082107-hair-color-examples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custombeautyproducts.com/wp-content/uploads/2007/08/082107-hair-color-examples.jpg" TargetMode="External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hyperlink" Target="http://custombeautyproducts.com/wp-content/uploads/2007/08/082107-hair-color-examples.jpg" TargetMode="External"/><Relationship Id="rId7" Type="http://schemas.openxmlformats.org/officeDocument/2006/relationships/image" Target="../media/image27.jpeg"/><Relationship Id="rId8" Type="http://schemas.openxmlformats.org/officeDocument/2006/relationships/image" Target="../media/image27.jpeg"/><Relationship Id="rId9" Type="http://schemas.openxmlformats.org/officeDocument/2006/relationships/image" Target="../media/image27.jpeg"/><Relationship Id="rId10" Type="http://schemas.openxmlformats.org/officeDocument/2006/relationships/image" Target="../media/image29.jpe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image" Target="../media/image28.jpeg"/><Relationship Id="rId7" Type="http://schemas.openxmlformats.org/officeDocument/2006/relationships/image" Target="../media/image27.jpeg"/><Relationship Id="rId8" Type="http://schemas.openxmlformats.org/officeDocument/2006/relationships/image" Target="../media/image31.png"/><Relationship Id="rId9" Type="http://schemas.openxmlformats.org/officeDocument/2006/relationships/image" Target="../media/image32.jpe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d833"/>
                </a:solidFill>
                <a:latin typeface="Arial"/>
              </a:rPr>
              <a:t>Mendelian Exceptions</a:t>
            </a:r>
            <a:endParaRPr b="1" lang="en-US" sz="48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pter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tion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d833"/>
                </a:solidFill>
                <a:latin typeface="Arial"/>
              </a:rPr>
              <a:t>Codominance</a:t>
            </a: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se cattle or horses actually have both red and white hairs intermixed, or are spotted. Roan is a third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___________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f you cross a roan with a white…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295280" y="4343400"/>
          <a:ext cx="2743200" cy="20574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762120" y="5562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4495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3809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48120" y="38098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819520" y="5410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54100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523880" y="43434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819520" y="43434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rcRect l="0" t="0" r="4594" b="8089"/>
          <a:stretch/>
        </p:blipFill>
        <p:spPr>
          <a:xfrm>
            <a:off x="5410080" y="3886200"/>
            <a:ext cx="3581640" cy="2330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181480" y="2590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heno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4800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00200" y="5791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43200" y="48006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43200" y="5791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80"/>
                            </p:stCondLst>
                            <p:childTnLst>
                              <p:par>
                                <p:cTn id="4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80"/>
                            </p:stCondLst>
                            <p:childTnLst>
                              <p:par>
                                <p:cTn id="4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d833"/>
                </a:solidFill>
                <a:latin typeface="Arial"/>
              </a:rPr>
              <a:t>Codominance</a:t>
            </a: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dalusian chickens also show this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ttern of inheritan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f you cross a black (BB) chick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ith a white (WW) chick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You get black+white speckled (BW) chick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rcRect l="3250" t="0" r="0" b="27778"/>
          <a:stretch/>
        </p:blipFill>
        <p:spPr>
          <a:xfrm>
            <a:off x="380880" y="4191120"/>
            <a:ext cx="2808360" cy="24462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79760" y="4191120"/>
            <a:ext cx="2416320" cy="24382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72200" y="4110120"/>
            <a:ext cx="266688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120"/>
                            </p:stCondLst>
                            <p:childTnLst>
                              <p:par>
                                <p:cTn id="5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880"/>
                            </p:stCondLst>
                            <p:childTnLst>
                              <p:par>
                                <p:cTn id="5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480"/>
                            </p:stCondLst>
                            <p:childTnLst>
                              <p:par>
                                <p:cTn id="5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d833"/>
                </a:solidFill>
                <a:latin typeface="Arial"/>
              </a:rPr>
              <a:t>Multiple Alleles</a:t>
            </a: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 this pattern of inheritance, the genes have more than _____ alleles controlling them and are therefore said to have multiple alleles.  No individual has more than _____ alleles, but there are more than _____ possible alleles in a population, so a ______ will be expressed in more than two form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86200" y="2133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tw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05120" y="3505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tw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905120" y="39625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tw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62520" y="4419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tr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4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4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d833"/>
                </a:solidFill>
                <a:latin typeface="Arial"/>
              </a:rPr>
              <a:t>Multiple Alleles</a:t>
            </a: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38188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ood type in humans is an example of this inheritance patter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______ different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ood group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, B, O, and AB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e produce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y ______ different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el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, B, and 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28800" y="2590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f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4572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th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5715000" y="2438280"/>
          <a:ext cx="3047760" cy="3616560"/>
        </p:xfrm>
        <a:graphic>
          <a:graphicData uri="http://schemas.openxmlformats.org/drawingml/2006/table">
            <a:tbl>
              <a:tblPr/>
              <a:tblGrid>
                <a:gridCol w="1415880"/>
                <a:gridCol w="1631880"/>
              </a:tblGrid>
              <a:tr h="723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76949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76949"/>
                          </a:solidFill>
                          <a:latin typeface="Arial"/>
                        </a:rPr>
                        <a:t>G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76949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76949"/>
                          </a:solidFill>
                          <a:latin typeface="Arial"/>
                        </a:rPr>
                        <a:t>AA or A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3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7694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76949"/>
                          </a:solidFill>
                          <a:latin typeface="Arial"/>
                        </a:rPr>
                        <a:t>BB or B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76949"/>
                          </a:solidFill>
                          <a:latin typeface="Arial"/>
                        </a:rPr>
                        <a:t>A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76949"/>
                          </a:solidFill>
                          <a:latin typeface="Arial"/>
                        </a:rPr>
                        <a:t>AB on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76949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76949"/>
                          </a:solidFill>
                          <a:latin typeface="Arial"/>
                        </a:rPr>
                        <a:t>OO on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d833"/>
                </a:solidFill>
                <a:latin typeface="Arial"/>
              </a:rPr>
              <a:t>Multiple Alleles</a:t>
            </a: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619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amples of Blood type cros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8229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57200" y="2630520"/>
            <a:ext cx="8229600" cy="25891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95880" y="2746440"/>
            <a:ext cx="150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76949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76949"/>
                </a:solidFill>
                <a:latin typeface="Arial"/>
              </a:rPr>
              <a:t>(Blood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d833"/>
                </a:solidFill>
                <a:latin typeface="Arial"/>
              </a:rPr>
              <a:t>Multiple Alleles</a:t>
            </a: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417760" y="282240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76949"/>
                </a:solidFill>
                <a:latin typeface="Arial"/>
              </a:rPr>
              <a:t>Geno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14479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7300"/>
                </a:solidFill>
                <a:latin typeface="Arial"/>
              </a:rPr>
              <a:t>Blood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86920" y="266688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76949"/>
                </a:solidFill>
                <a:latin typeface="Arial"/>
              </a:rPr>
              <a:t>Antigen 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76949"/>
                </a:solidFill>
                <a:latin typeface="Arial"/>
              </a:rPr>
              <a:t>Red Blood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943600" y="26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76949"/>
                </a:solidFill>
                <a:latin typeface="Arial"/>
              </a:rPr>
              <a:t>Safe Transfu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3600" y="3048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76949"/>
                </a:solidFill>
                <a:latin typeface="Arial"/>
              </a:rPr>
              <a:t>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45240" y="30243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76949"/>
                </a:solidFill>
                <a:latin typeface="Arial"/>
              </a:rPr>
              <a:t>Fr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d833"/>
                </a:solidFill>
                <a:latin typeface="Arial"/>
              </a:rPr>
              <a:t>Multiple Alleles</a:t>
            </a: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example of _______ hair color, which has at least  four different alleles, (on text pg 320) is seen in these different Rex rabbi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09880" y="16765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rabb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" descr="Rex rabbit - broken black"/>
          <p:cNvPicPr/>
          <p:nvPr/>
        </p:nvPicPr>
        <p:blipFill>
          <a:blip r:embed="rId1"/>
          <a:srcRect l="0" t="0" r="0" b="22890"/>
          <a:stretch/>
        </p:blipFill>
        <p:spPr>
          <a:xfrm>
            <a:off x="4114800" y="4008600"/>
            <a:ext cx="4819680" cy="24685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Rex rabbit - tri-color"/>
          <p:cNvPicPr/>
          <p:nvPr/>
        </p:nvPicPr>
        <p:blipFill>
          <a:blip r:embed="rId2"/>
          <a:stretch/>
        </p:blipFill>
        <p:spPr>
          <a:xfrm>
            <a:off x="762120" y="3581280"/>
            <a:ext cx="4267080" cy="24577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tri-color Rex"/>
          <p:cNvPicPr/>
          <p:nvPr/>
        </p:nvPicPr>
        <p:blipFill>
          <a:blip r:embed="rId3"/>
          <a:stretch/>
        </p:blipFill>
        <p:spPr>
          <a:xfrm>
            <a:off x="4572000" y="3867120"/>
            <a:ext cx="4419720" cy="27576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broken lynx Rex"/>
          <p:cNvPicPr/>
          <p:nvPr/>
        </p:nvPicPr>
        <p:blipFill>
          <a:blip r:embed="rId4"/>
          <a:stretch/>
        </p:blipFill>
        <p:spPr>
          <a:xfrm>
            <a:off x="762120" y="3581280"/>
            <a:ext cx="3962160" cy="27892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Rex rabbit - californian"/>
          <p:cNvPicPr/>
          <p:nvPr/>
        </p:nvPicPr>
        <p:blipFill>
          <a:blip r:embed="rId5"/>
          <a:stretch/>
        </p:blipFill>
        <p:spPr>
          <a:xfrm>
            <a:off x="4648320" y="3809880"/>
            <a:ext cx="4343400" cy="25020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Rex - castor"/>
          <p:cNvPicPr/>
          <p:nvPr/>
        </p:nvPicPr>
        <p:blipFill>
          <a:blip r:embed="rId6"/>
          <a:stretch/>
        </p:blipFill>
        <p:spPr>
          <a:xfrm>
            <a:off x="762120" y="3657600"/>
            <a:ext cx="3962160" cy="25509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chocolate Rex rabbit"/>
          <p:cNvPicPr/>
          <p:nvPr/>
        </p:nvPicPr>
        <p:blipFill>
          <a:blip r:embed="rId7"/>
          <a:stretch/>
        </p:blipFill>
        <p:spPr>
          <a:xfrm>
            <a:off x="4724280" y="3809880"/>
            <a:ext cx="4038840" cy="27464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Chinchilla Rex "/>
          <p:cNvPicPr/>
          <p:nvPr/>
        </p:nvPicPr>
        <p:blipFill>
          <a:blip r:embed="rId8"/>
          <a:stretch/>
        </p:blipFill>
        <p:spPr>
          <a:xfrm>
            <a:off x="685800" y="3733920"/>
            <a:ext cx="4114800" cy="27651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red Rex rabbit - junior color"/>
          <p:cNvPicPr/>
          <p:nvPr/>
        </p:nvPicPr>
        <p:blipFill>
          <a:blip r:embed="rId9"/>
          <a:stretch/>
        </p:blipFill>
        <p:spPr>
          <a:xfrm>
            <a:off x="4800600" y="3809880"/>
            <a:ext cx="4191120" cy="26481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Rex rabbit - sable"/>
          <p:cNvPicPr/>
          <p:nvPr/>
        </p:nvPicPr>
        <p:blipFill>
          <a:blip r:embed="rId10"/>
          <a:stretch/>
        </p:blipFill>
        <p:spPr>
          <a:xfrm>
            <a:off x="457200" y="3962520"/>
            <a:ext cx="4514760" cy="25095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Rex rabbit - white"/>
          <p:cNvPicPr/>
          <p:nvPr/>
        </p:nvPicPr>
        <p:blipFill>
          <a:blip r:embed="rId11"/>
          <a:stretch/>
        </p:blipFill>
        <p:spPr>
          <a:xfrm>
            <a:off x="4724280" y="3733920"/>
            <a:ext cx="4419720" cy="25095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Rex rabbits - castor and chocolate agouti (not recognized)"/>
          <p:cNvPicPr/>
          <p:nvPr/>
        </p:nvPicPr>
        <p:blipFill>
          <a:blip r:embed="rId12"/>
          <a:stretch/>
        </p:blipFill>
        <p:spPr>
          <a:xfrm>
            <a:off x="838080" y="3581280"/>
            <a:ext cx="398160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2000"/>
                            </p:stCondLst>
                            <p:childTnLst>
                              <p:par>
                                <p:cTn id="6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4000"/>
                            </p:stCondLst>
                            <p:childTnLst>
                              <p:par>
                                <p:cTn id="6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6000"/>
                            </p:stCondLst>
                            <p:childTnLst>
                              <p:par>
                                <p:cTn id="6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8000"/>
                            </p:stCondLst>
                            <p:childTnLst>
                              <p:par>
                                <p:cTn id="6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6000"/>
                            </p:stCondLst>
                            <p:childTnLst>
                              <p:par>
                                <p:cTn id="6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8000"/>
                            </p:stCondLst>
                            <p:childTnLst>
                              <p:par>
                                <p:cTn id="6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0"/>
                            </p:stCondLst>
                            <p:childTnLst>
                              <p:par>
                                <p:cTn id="6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2000"/>
                            </p:stCondLst>
                            <p:childTnLst>
                              <p:par>
                                <p:cTn id="6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24000"/>
                            </p:stCondLst>
                            <p:childTnLst>
                              <p:par>
                                <p:cTn id="70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4" dur="2000" fill="hold"/>
                                        <p:tgtEl>
                                          <p:spTgt spid="2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d833"/>
                </a:solidFill>
                <a:latin typeface="Arial"/>
              </a:rPr>
              <a:t>Polygenic Traits</a:t>
            </a: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its controlled by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wo or more ge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ow 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id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range of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heno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henotyp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produced by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interactio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 more tha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________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 ge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809880" y="3048120"/>
            <a:ext cx="4953240" cy="33321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066680" y="48006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 p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d833"/>
                </a:solidFill>
                <a:latin typeface="Arial"/>
              </a:rPr>
              <a:t>Polygenic Traits</a:t>
            </a: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se are called ___________ traits, which means “having _______ genes”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 humans, _____ color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_____ color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038480" y="1523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olyge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952880" y="19810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m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66680" y="30780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k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48120" y="25146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ey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0" y="1219320"/>
            <a:ext cx="9143640" cy="5638320"/>
            <a:chOff x="0" y="1219320"/>
            <a:chExt cx="9143640" cy="5638320"/>
          </a:xfrm>
        </p:grpSpPr>
        <p:pic>
          <p:nvPicPr>
            <p:cNvPr id="309" name="" descr=""/>
            <p:cNvPicPr/>
            <p:nvPr/>
          </p:nvPicPr>
          <p:blipFill>
            <a:blip r:embed="rId1"/>
            <a:srcRect l="0" t="50799" r="50019" b="0"/>
            <a:stretch/>
          </p:blipFill>
          <p:spPr>
            <a:xfrm>
              <a:off x="4114800" y="3069360"/>
              <a:ext cx="1511640" cy="13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2"/>
            <a:srcRect l="0" t="781" r="0" b="0"/>
            <a:stretch/>
          </p:blipFill>
          <p:spPr>
            <a:xfrm>
              <a:off x="5626800" y="1836000"/>
              <a:ext cx="3516840" cy="502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3"/>
            <a:srcRect l="0" t="0" r="0" b="49222"/>
            <a:stretch/>
          </p:blipFill>
          <p:spPr>
            <a:xfrm>
              <a:off x="5290920" y="1219320"/>
              <a:ext cx="3023280" cy="14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4"/>
            <a:srcRect l="55574" t="50799" r="-5537" b="0"/>
            <a:stretch/>
          </p:blipFill>
          <p:spPr>
            <a:xfrm>
              <a:off x="4199040" y="1747800"/>
              <a:ext cx="1511640" cy="13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EXAMPLES OF A VARIETY OF SKIN COLORS ILLUSTRATED BY PHOTOS"/>
            <p:cNvPicPr/>
            <p:nvPr/>
          </p:nvPicPr>
          <p:blipFill>
            <a:blip r:embed="rId5"/>
            <a:stretch/>
          </p:blipFill>
          <p:spPr>
            <a:xfrm>
              <a:off x="0" y="4479120"/>
              <a:ext cx="5637240" cy="2312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d833"/>
                </a:solidFill>
                <a:latin typeface="Arial"/>
              </a:rPr>
              <a:t>Polygenic Traits</a:t>
            </a: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se are called ___________ traits, which means “having _______ genes”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 humans, _____ color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_____ color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d _____ colo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038480" y="1523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olyge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952880" y="19810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m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066680" y="30780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k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8120" y="25146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ey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676520" y="36576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h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80880" y="1752480"/>
            <a:ext cx="8554320" cy="4952880"/>
            <a:chOff x="380880" y="1752480"/>
            <a:chExt cx="8554320" cy="4952880"/>
          </a:xfrm>
        </p:grpSpPr>
        <p:grpSp>
          <p:nvGrpSpPr>
            <p:cNvPr id="322" name=""/>
            <p:cNvGrpSpPr/>
            <p:nvPr/>
          </p:nvGrpSpPr>
          <p:grpSpPr>
            <a:xfrm>
              <a:off x="2133720" y="1752480"/>
              <a:ext cx="6801480" cy="4952880"/>
              <a:chOff x="2133720" y="1752480"/>
              <a:chExt cx="6801480" cy="4952880"/>
            </a:xfrm>
          </p:grpSpPr>
          <p:pic>
            <p:nvPicPr>
              <p:cNvPr id="323" name="" descr="protecting hair color">
                <a:hlinkClick r:id="rId1"/>
              </p:cNvPr>
              <p:cNvPicPr/>
              <p:nvPr/>
            </p:nvPicPr>
            <p:blipFill>
              <a:blip r:embed="rId2"/>
              <a:srcRect l="27264" t="0" r="43659" b="78615"/>
              <a:stretch/>
            </p:blipFill>
            <p:spPr>
              <a:xfrm>
                <a:off x="2133720" y="4724280"/>
                <a:ext cx="1695600" cy="198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4" name="" descr="protecting hair color">
                <a:hlinkClick r:id="rId3"/>
              </p:cNvPr>
              <p:cNvPicPr/>
              <p:nvPr/>
            </p:nvPicPr>
            <p:blipFill>
              <a:blip r:embed="rId4"/>
              <a:srcRect l="56358" t="56146" r="0" b="0"/>
              <a:stretch/>
            </p:blipFill>
            <p:spPr>
              <a:xfrm>
                <a:off x="7133760" y="3832560"/>
                <a:ext cx="1801440" cy="28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5" name="" descr=""/>
              <p:cNvPicPr/>
              <p:nvPr/>
            </p:nvPicPr>
            <p:blipFill>
              <a:blip r:embed="rId5"/>
              <a:srcRect l="76288" t="0" r="-2393" b="11121"/>
              <a:stretch/>
            </p:blipFill>
            <p:spPr>
              <a:xfrm>
                <a:off x="5394240" y="2247480"/>
                <a:ext cx="1988280" cy="247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6" name="" descr="protecting hair color">
                <a:hlinkClick r:id="rId6"/>
              </p:cNvPr>
              <p:cNvPicPr/>
              <p:nvPr/>
            </p:nvPicPr>
            <p:blipFill>
              <a:blip r:embed="rId7"/>
              <a:srcRect l="0" t="33337" r="72232" b="39439"/>
              <a:stretch/>
            </p:blipFill>
            <p:spPr>
              <a:xfrm>
                <a:off x="3851280" y="4228560"/>
                <a:ext cx="1590480" cy="247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protecting hair color"/>
              <p:cNvPicPr/>
              <p:nvPr/>
            </p:nvPicPr>
            <p:blipFill>
              <a:blip r:embed="rId8"/>
              <a:srcRect l="0" t="0" r="72753" b="78615"/>
              <a:stretch/>
            </p:blipFill>
            <p:spPr>
              <a:xfrm>
                <a:off x="7223760" y="1752480"/>
                <a:ext cx="1670040" cy="208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protecting hair color"/>
              <p:cNvPicPr/>
              <p:nvPr/>
            </p:nvPicPr>
            <p:blipFill>
              <a:blip r:embed="rId9"/>
              <a:srcRect l="2688" t="63168" r="46346" b="0"/>
              <a:stretch/>
            </p:blipFill>
            <p:spPr>
              <a:xfrm>
                <a:off x="5378760" y="4624920"/>
                <a:ext cx="1812960" cy="2080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29" name="" descr=""/>
            <p:cNvPicPr/>
            <p:nvPr/>
          </p:nvPicPr>
          <p:blipFill>
            <a:blip r:embed="rId10"/>
            <a:stretch/>
          </p:blipFill>
          <p:spPr>
            <a:xfrm>
              <a:off x="380880" y="4724280"/>
              <a:ext cx="1795680" cy="1905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d833"/>
                </a:solidFill>
                <a:latin typeface="Arial"/>
              </a:rPr>
              <a:t>Mendel’s Principles Revisited </a:t>
            </a: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458200" cy="48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heritance of biological _____________ is determined by individual units known as _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uring sexual reproduction, genes are passed from parents to ____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wo or more forms of the gene for a single _____ exist, some forms of the gene may be _________ and others may be recess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220968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character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37339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offsp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26668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ge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14600" y="48006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tr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33920" y="53341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domin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d833"/>
                </a:solidFill>
                <a:latin typeface="Arial"/>
              </a:rPr>
              <a:t>Polygenic Traits</a:t>
            </a: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se are called ___________ traits, which means “having _______ genes”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 humans, _____ color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_____ color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d _____ colo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re just a few of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many traits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__________ by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any genes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038480" y="1523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olyge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952880" y="19810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m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066680" y="30780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k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914400" y="5105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contro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048120" y="25146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ey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676520" y="36576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h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4191120" y="3276720"/>
            <a:ext cx="3430440" cy="35812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protecting hair color"/>
          <p:cNvPicPr/>
          <p:nvPr/>
        </p:nvPicPr>
        <p:blipFill>
          <a:blip r:embed="rId2"/>
          <a:srcRect l="2688" t="63168" r="46346" b="0"/>
          <a:stretch/>
        </p:blipFill>
        <p:spPr>
          <a:xfrm>
            <a:off x="6781680" y="2666880"/>
            <a:ext cx="1447920" cy="16002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protecting hair color"/>
          <p:cNvPicPr/>
          <p:nvPr/>
        </p:nvPicPr>
        <p:blipFill>
          <a:blip r:embed="rId3"/>
          <a:srcRect l="56358" t="57658" r="0" b="0"/>
          <a:stretch/>
        </p:blipFill>
        <p:spPr>
          <a:xfrm>
            <a:off x="7238880" y="4191120"/>
            <a:ext cx="1438560" cy="21333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4"/>
          <a:srcRect l="1540" t="34312" r="67703" b="35970"/>
          <a:stretch/>
        </p:blipFill>
        <p:spPr>
          <a:xfrm>
            <a:off x="6172200" y="4876920"/>
            <a:ext cx="1066680" cy="6919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5"/>
          <a:srcRect l="67703" t="34312" r="1540" b="35970"/>
          <a:stretch/>
        </p:blipFill>
        <p:spPr>
          <a:xfrm>
            <a:off x="3276720" y="6066000"/>
            <a:ext cx="1218960" cy="7920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6"/>
          <a:srcRect l="76288" t="0" r="15736" b="11121"/>
          <a:stretch/>
        </p:blipFill>
        <p:spPr>
          <a:xfrm>
            <a:off x="3962520" y="3276720"/>
            <a:ext cx="609480" cy="24764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protecting hair color"/>
          <p:cNvPicPr/>
          <p:nvPr/>
        </p:nvPicPr>
        <p:blipFill>
          <a:blip r:embed="rId7"/>
          <a:srcRect l="3729" t="0" r="72753" b="92167"/>
          <a:stretch/>
        </p:blipFill>
        <p:spPr>
          <a:xfrm>
            <a:off x="5334120" y="2666880"/>
            <a:ext cx="1441440" cy="7621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8"/>
          <a:srcRect l="12501" t="6099" r="12501" b="30225"/>
          <a:stretch/>
        </p:blipFill>
        <p:spPr>
          <a:xfrm>
            <a:off x="6934320" y="4191120"/>
            <a:ext cx="990360" cy="5508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9"/>
          <a:srcRect l="3997" t="1518" r="6000" b="7573"/>
          <a:stretch/>
        </p:blipFill>
        <p:spPr>
          <a:xfrm>
            <a:off x="6629400" y="5842080"/>
            <a:ext cx="152388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"/>
                            </p:stCondLst>
                            <p:childTnLst>
                              <p:par>
                                <p:cTn id="8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2000"/>
                            </p:stCondLst>
                            <p:childTnLst>
                              <p:par>
                                <p:cTn id="8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500"/>
                            </p:stCondLst>
                            <p:childTnLst>
                              <p:par>
                                <p:cTn id="8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3000"/>
                            </p:stCondLst>
                            <p:childTnLst>
                              <p:par>
                                <p:cTn id="8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3500"/>
                            </p:stCondLst>
                            <p:childTnLst>
                              <p:par>
                                <p:cTn id="8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4000"/>
                            </p:stCondLst>
                            <p:childTnLst>
                              <p:par>
                                <p:cTn id="8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4500"/>
                            </p:stCondLst>
                            <p:childTnLst>
                              <p:par>
                                <p:cTn id="8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d833"/>
                </a:solidFill>
                <a:latin typeface="Arial"/>
              </a:rPr>
              <a:t>Polygenic Inheritance</a:t>
            </a:r>
            <a:br>
              <a:rPr sz="3900"/>
            </a:b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4956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 additive effect of 2 or more genes on one charact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􀁡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kin pigment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at least 3 gene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air col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at least 4 gene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4155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d833"/>
                </a:solidFill>
                <a:latin typeface="Arial"/>
              </a:rPr>
              <a:t>Rules of addition and</a:t>
            </a:r>
            <a:br>
              <a:rPr sz="3900"/>
            </a:br>
            <a:r>
              <a:rPr b="1" lang="en-US" sz="3900" spc="-1" strike="noStrike">
                <a:solidFill>
                  <a:srgbClr val="ffd833"/>
                </a:solidFill>
                <a:latin typeface="Arial"/>
              </a:rPr>
              <a:t>multiplication</a:t>
            </a: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800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m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ll tongue (R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eyelashes (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ft chin (C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1600200"/>
            <a:ext cx="32763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tongue roll (r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eyelashes (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ft chin (C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33520" y="3886200"/>
            <a:ext cx="83818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ability of having a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ught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/4 (xx, xx, xy, x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ll tongu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/4 (Rr, Rr, rr, r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 eyelash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/4 (Ll, Ll, ll, l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ft chi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/4 (Cc, Cc, Cc, c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2/4 x 2/4 x 2/4 x 3/4 = 24/256 = 9.37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d833"/>
                </a:solidFill>
                <a:latin typeface="Arial"/>
              </a:rPr>
              <a:t>Polygenic Traits</a:t>
            </a: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ometimes the combination of the different  genes results in continuous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__________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of these traits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combined size of all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______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parts from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ead to foot, determines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_______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of the person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1440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var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00200" y="34290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600200" y="43434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he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rcRect l="0" t="0" r="0" b="32209"/>
          <a:stretch/>
        </p:blipFill>
        <p:spPr>
          <a:xfrm>
            <a:off x="5943600" y="2666880"/>
            <a:ext cx="2927520" cy="29718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Gene for human height revealed"/>
          <p:cNvPicPr/>
          <p:nvPr/>
        </p:nvPicPr>
        <p:blipFill>
          <a:blip r:embed="rId2"/>
          <a:srcRect l="0" t="0" r="0" b="13397"/>
          <a:stretch/>
        </p:blipFill>
        <p:spPr>
          <a:xfrm>
            <a:off x="4038480" y="4962600"/>
            <a:ext cx="2254320" cy="19717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Mitch Ritter and Stephanie McGillivray"/>
          <p:cNvPicPr/>
          <p:nvPr/>
        </p:nvPicPr>
        <p:blipFill>
          <a:blip r:embed="rId3"/>
          <a:srcRect l="0" t="0" r="0" b="11549"/>
          <a:stretch/>
        </p:blipFill>
        <p:spPr>
          <a:xfrm>
            <a:off x="1905120" y="4952880"/>
            <a:ext cx="19890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000"/>
                            </p:stCondLst>
                            <p:childTnLst>
                              <p:par>
                                <p:cTn id="9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1500"/>
                            </p:stCondLst>
                            <p:childTnLst>
                              <p:par>
                                <p:cTn id="9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8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d833"/>
                </a:solidFill>
                <a:latin typeface="Arial"/>
              </a:rPr>
              <a:t>Mendel’s Principles Revisited </a:t>
            </a: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686800" cy="48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sms typically have ____copies of each gene, (one from each _______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 organism’s _____ of genes (2 alleles) are segregated from each other when ________ are form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eles for different ______ usually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gregate _____________ of one another. (through meios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7300"/>
                </a:solidFill>
                <a:latin typeface="Arial"/>
              </a:rPr>
              <a:t>(Law of Independent Assort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00400" y="4800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independe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77120" y="22096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a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72200" y="17524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tw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37339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game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52880" y="43434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ge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14800" y="2819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d833"/>
                </a:solidFill>
                <a:latin typeface="Arial"/>
              </a:rPr>
              <a:t>Independent Assortment in Peas</a:t>
            </a: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52280" y="1447920"/>
            <a:ext cx="5410080" cy="5409720"/>
            <a:chOff x="152280" y="1447920"/>
            <a:chExt cx="5410080" cy="5409720"/>
          </a:xfrm>
        </p:grpSpPr>
        <p:sp>
          <p:nvSpPr>
            <p:cNvPr id="175" name=""/>
            <p:cNvSpPr/>
            <p:nvPr/>
          </p:nvSpPr>
          <p:spPr>
            <a:xfrm>
              <a:off x="152280" y="1447920"/>
              <a:ext cx="5410080" cy="54097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1"/>
            <a:srcRect l="0" t="0" r="-11954" b="0"/>
            <a:stretch/>
          </p:blipFill>
          <p:spPr>
            <a:xfrm>
              <a:off x="427320" y="1709640"/>
              <a:ext cx="5043240" cy="505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"/>
          <p:cNvSpPr/>
          <p:nvPr/>
        </p:nvSpPr>
        <p:spPr>
          <a:xfrm>
            <a:off x="5410080" y="2209680"/>
            <a:ext cx="33530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 Round ye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 Round gr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 Wrinkled ye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 Wrinkled gr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62720" y="2438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2971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62720" y="3429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3962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d833"/>
                </a:solidFill>
                <a:latin typeface="Arial"/>
              </a:rPr>
              <a:t>Incomplete Dominance</a:t>
            </a: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 incomplete dominance, neither allele is __________ so there is a blending of  ______ when two different alleles for the same trait occur together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lors </a:t>
            </a:r>
            <a:r>
              <a:rPr b="1" lang="en-US" sz="3400" spc="-1" strike="noStrike">
                <a:solidFill>
                  <a:srgbClr val="ff3300"/>
                </a:solidFill>
                <a:latin typeface="Arial"/>
              </a:rPr>
              <a:t>blend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togeth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(______________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 individuals =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       3</a:t>
            </a:r>
            <a:r>
              <a:rPr b="1" lang="en-US" sz="3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phenotype)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20574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domin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2514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tra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41148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heterozyg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7536" r="0" b="10882"/>
          <a:stretch/>
        </p:blipFill>
        <p:spPr>
          <a:xfrm>
            <a:off x="4952880" y="3733920"/>
            <a:ext cx="4038840" cy="2374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029200" y="60958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43800" y="6095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248520" y="60958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Arial"/>
              </a:rPr>
              <a:t>p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d833"/>
                </a:solidFill>
                <a:latin typeface="Arial"/>
              </a:rPr>
              <a:t>Incomplete Dominance</a:t>
            </a: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 Four O’ Clocks, if you cross a red _____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(which is always pure) with a white _____ (that is also always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ure) , you get a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ink _____ (which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s always hybrid /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eterozygo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20120" y="16765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R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38880" y="21337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W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3505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R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724280" y="2819520"/>
            <a:ext cx="4267440" cy="3962160"/>
            <a:chOff x="4724280" y="2819520"/>
            <a:chExt cx="4267440" cy="3962160"/>
          </a:xfrm>
        </p:grpSpPr>
        <p:sp>
          <p:nvSpPr>
            <p:cNvPr id="197" name=""/>
            <p:cNvSpPr/>
            <p:nvPr/>
          </p:nvSpPr>
          <p:spPr>
            <a:xfrm>
              <a:off x="4724280" y="2819520"/>
              <a:ext cx="4267440" cy="39621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4875480" y="2980800"/>
              <a:ext cx="3888360" cy="364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"/>
          <p:cNvGrpSpPr/>
          <p:nvPr/>
        </p:nvGrpSpPr>
        <p:grpSpPr>
          <a:xfrm>
            <a:off x="6172200" y="4419720"/>
            <a:ext cx="2590920" cy="2286000"/>
            <a:chOff x="6172200" y="4419720"/>
            <a:chExt cx="2590920" cy="2286000"/>
          </a:xfrm>
        </p:grpSpPr>
        <p:sp>
          <p:nvSpPr>
            <p:cNvPr id="200" name=""/>
            <p:cNvSpPr/>
            <p:nvPr/>
          </p:nvSpPr>
          <p:spPr>
            <a:xfrm>
              <a:off x="6172200" y="4419720"/>
              <a:ext cx="2590920" cy="22096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67480" y="4419720"/>
              <a:ext cx="0" cy="22860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72200" y="5486400"/>
              <a:ext cx="25909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7696080" y="5791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00800" y="5791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008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01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d833"/>
                </a:solidFill>
                <a:latin typeface="Arial"/>
              </a:rPr>
              <a:t>Incomplete Dominance</a:t>
            </a: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 another flower, if red ____ and blue ____ flowers are crossed, they produce a 3</a:t>
            </a:r>
            <a:r>
              <a:rPr b="1" lang="en-US" sz="3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purple ____ flow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at would be the genotype ratio and phenotype ratio if you crossed two purple flower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17524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R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2209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B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05520" y="2666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R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4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4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d833"/>
                </a:solidFill>
                <a:latin typeface="Arial"/>
              </a:rPr>
              <a:t>Incomplete Dominance</a:t>
            </a: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ross of two purple flower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____ X 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at are gamete possibilitie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genotype ratio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833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d833"/>
                </a:solidFill>
                <a:latin typeface="Arial"/>
              </a:rPr>
              <a:t>1RR : 2RB : 1B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henotype ratio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d833"/>
                </a:solidFill>
                <a:latin typeface="Arial"/>
              </a:rPr>
              <a:t>1red : 2 purple : 1 blu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an you have a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eterozygous red or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ybrid blue flower? 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791320" y="3581280"/>
          <a:ext cx="2819160" cy="2362320"/>
        </p:xfrm>
        <a:graphic>
          <a:graphicData uri="http://schemas.openxmlformats.org/drawingml/2006/table">
            <a:tbl>
              <a:tblPr/>
              <a:tblGrid>
                <a:gridCol w="1409400"/>
                <a:gridCol w="140976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5334120" y="5029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4120" y="3886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48520" y="3048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20120" y="3048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4800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48769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95880" y="3657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7480" y="36576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95880" y="41148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15200" y="4114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r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19920" y="5334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r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467480" y="53341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20574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R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90920" y="20574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R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876920" y="62485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1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6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3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4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9" dur="1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2" dur="10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7" dur="1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d833"/>
                </a:solidFill>
                <a:latin typeface="Arial"/>
              </a:rPr>
              <a:t>Codominance</a:t>
            </a: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th _______ contribute to t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henotyp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of the organism by showin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  up simultaneously  (at t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  same time) in heterozygo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2698920" cy="40478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971800" y="3429000"/>
            <a:ext cx="5943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dividual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524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cattle and horses, if you cross a pur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R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with a pur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(WW), you get (RW)  which produces the colo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 </a:t>
            </a:r>
            <a:br>
              <a:rPr sz="3200"/>
            </a:b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81080" y="15238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alle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43600" y="4343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715000" y="4800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wh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5638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ro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'Connor</dc:creator>
  <dc:description/>
  <dc:language>en-US</dc:language>
  <cp:lastModifiedBy>joconnor</cp:lastModifiedBy>
  <dcterms:modified xsi:type="dcterms:W3CDTF">2010-04-29T13:28:33Z</dcterms:modified>
  <cp:revision>18</cp:revision>
  <dc:subject>Mendel's Exceptions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